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1104-80D7-46B2-A6A1-4C2EA8D2A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4069-73FC-4825-815B-3EECF37A0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3556-AE7F-4535-AF5E-95DF020F0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411A-D21A-427B-8DAA-73CE045F6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6457A-6261-4157-AE2B-4F532B6B1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39CA5-0E10-4D8A-85AA-F57FBB8F2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37B8E-0C32-40D7-8695-FFF3FA4E6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D052D-151C-4786-AE43-9B4FE2F5E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14D73-EEF2-44EE-AAFE-F2276076D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EC5FB-7C59-47B9-AFC2-0FB81A023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550C4-3894-42DB-B993-86664D16B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FA3E-4CEA-4E11-8027-2C3AD7346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78BD7-DF77-4F91-8C1A-AAB1D7591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F70C5-F3BB-40FA-9431-AA896D707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822A5-D4C4-4F5D-92DE-D965129FE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D1099-AFCC-4E1F-A50B-B4BB0D9EB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296E4-FC67-4EB0-A9EE-5BCC27C88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B4A137-5DAE-4BDD-A37B-1A4FA2963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245BD6-57AC-4637-9CCF-CCC304449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CA7E42-F919-490C-A24F-0B84567FD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820FAD-542E-456B-BC3F-BA7860B89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613CC8-7CD4-47FB-BE1C-568026AE4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532E-E50C-4A8D-B28F-33ABD8981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B3B3BC-EFC5-4AF5-87B8-90B07ED06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13A0C2-B308-4519-91C9-881DE3D82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C76A65-718E-4506-8EF2-27C5F3692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0ECE5D-077A-4058-92EC-61A2D532F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A53A55-0CEE-4FDC-9190-AA86F9314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5DC1B1-6D72-40C7-98FA-792A887A8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37FF69-DC76-4B87-B8F5-F9A54F03B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23DF7A-E906-4435-8BEB-66135E00E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19CF6C-868D-47D3-963C-E7C508C79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732D7E-2D9F-4435-9B7B-298A2AB79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3110-CAE2-41BF-87A7-29E7A1AD1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CC8E9C-B19C-4576-A623-5A361AF65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29401C-1786-4339-8FDB-0C16E5B6C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43036A-66AE-455E-9F83-633BFAC2A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1C6937-4B11-4683-9D2E-7D0C49820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C264E2-A9C6-40F7-B1BA-54E05362F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FA95AE-500F-4E5B-B539-927E07547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69EC32-6ED8-424B-8450-03C21F2A2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8EAA20-E8AA-4321-8592-11B56BD8E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B92BD1-9ACD-408A-8636-21E26A2E6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8C52F6-23D3-4F31-B694-981D0CAD2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0A72-657C-4280-91E2-EDDEE2BCC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EA4E2F-DA26-4522-B04C-7204B42AB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6B5EF5-7F09-478E-AFE6-1DC8E85DA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8936D2-90DC-4771-8C42-AD668483B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9F9115-FDD4-4350-8600-33CD357B6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561A61-570A-46EE-A8BF-2D5DC27A0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66AA98-E984-47FC-A7DF-89924E9DD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809E0C-8BEF-419E-805A-971B89468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FEE48A-65EC-4302-8773-F95DA05C0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930FF9-59D3-4378-A2A5-63D157990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46EF80-7751-46FC-A873-4FC36A68A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1062-79DA-4B5B-B9C9-18CCD772D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944D93-DD1C-46D1-A698-7C0605F45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623017-FC51-4BBB-9177-921E3540C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A338F2-1580-407F-BAC8-BBDB0F8A4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0F6CB8-7225-4A5D-AADB-B9EBE26BB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5B5E91-CA7E-4944-94B7-04390AEE7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8621AD-AFFD-4B7D-BC05-AF5EC4029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F6FBE7-BEE7-4664-9B98-FEE636720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A45769-B234-4597-8056-00776E9AE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D3516F-63AD-4A5A-8883-A1FDCAC7B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EA3D24-3FD8-446F-AAE9-B0478AC0D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E5B7-FE6A-4B58-B53C-914F888D6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E9C151-D9CE-4ED5-A7AC-404C956AF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79C24D-9DB6-45E9-A0AB-6D0376599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4FD92A-8FD4-49EE-91B6-97632BEAB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4426-E29B-4E67-9FC4-C9E944E64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E971-C577-4D50-9D79-DB071EA81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8E58A-385B-4A9B-A84F-735AAF8D89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86341-5152-43AF-A886-C2ABED6067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ff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00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00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E2499-58BC-49F7-A8FF-677AACC1BE01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ff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ftr" idx="11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26FBA-3F7D-4C9D-9DDF-704E0D5AEC12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83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184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187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13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14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 type="sldNum" idx="15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1CC67-4B4B-434C-B237-8AA39BFAA580}" type="slidenum">
              <a:rPr b="1" lang="en-US" sz="26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231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234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6" name="PlaceHolder 1"/>
          <p:cNvSpPr>
            <a:spLocks noGrp="1"/>
          </p:cNvSpPr>
          <p:nvPr>
            <p:ph type="dt" idx="16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ftr" idx="17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sldNum" idx="18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85444-51B5-4FE8-9ABA-8EF36F8F6162}" type="slidenum">
              <a:rPr b="1" lang="en-US" sz="26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9640" y="256500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Клеточная теория строения организмов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2189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III. Этап</a:t>
            </a:r>
            <a:br>
              <a:rPr sz="3200"/>
            </a:br>
            <a:r>
              <a:rPr b="1" i="1" lang="en-US" sz="3200" spc="-1" strike="noStrike">
                <a:solidFill>
                  <a:srgbClr val="ff3300"/>
                </a:solidFill>
                <a:latin typeface="Arial"/>
              </a:rPr>
              <a:t>Развитие клеточной теори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ff"/>
                </a:solidFill>
                <a:latin typeface="Garamond"/>
              </a:rPr>
              <a:t>Карл Максимович Бэр</a:t>
            </a: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3276720" y="1557360"/>
          <a:ext cx="2449440" cy="29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1557360"/>
                    <a:ext cx="2449440" cy="29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4584240"/>
            <a:ext cx="822960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3300"/>
                </a:solidFill>
                <a:latin typeface="Arial"/>
              </a:rPr>
              <a:t>1827 год</a:t>
            </a:r>
            <a:r>
              <a:rPr b="0" lang="en-US" sz="22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ткрыл яйцеклетку млекопитающих. Сформулировал положение, что клетка не только единица строения, но и единица развития живых организм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854880" y="981000"/>
            <a:ext cx="159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1792 – 1876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ff"/>
                </a:solidFill>
                <a:latin typeface="Garamond"/>
              </a:rPr>
              <a:t>Рудольф Вирхов</a:t>
            </a: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3419640" y="1484280"/>
          <a:ext cx="2228760" cy="309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9640" y="1484280"/>
                    <a:ext cx="2228760" cy="30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4723920"/>
            <a:ext cx="8229600" cy="14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3300"/>
                </a:solidFill>
                <a:latin typeface="Arial"/>
              </a:rPr>
              <a:t>1855 год</a:t>
            </a:r>
            <a:r>
              <a:rPr b="0" lang="en-US" sz="22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босновал принцип преемственности клеток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"каждая клетка из клетки"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924360" y="1268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854880" y="981000"/>
            <a:ext cx="159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1821 – 190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ff"/>
                </a:solidFill>
                <a:latin typeface="Garamond"/>
              </a:rPr>
              <a:t>Современная клеточная теория</a:t>
            </a: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) Клетка представляет собой основу структурной и функциональной организации растений и животных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) Клетки растений и животных сходны по строению и развиваются аналогично (путем деления исходной клетки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3) Клетки у всех организмов имеют мембранное строени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4) Ядро клетки представляет ее главный регуляторный органоид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5) Клеточное строение живых организмов — свидетельство единства их происхождени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94920" y="765000"/>
            <a:ext cx="839628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015920" indent="-1015920" algn="ctr">
              <a:lnSpc>
                <a:spcPct val="90000"/>
              </a:lnSpc>
              <a:buClr>
                <a:srgbClr val="ff3300"/>
              </a:buClr>
              <a:buFont typeface="Arial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Этап</a:t>
            </a:r>
            <a:br>
              <a:rPr sz="3200"/>
            </a:b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3300"/>
                </a:solidFill>
                <a:latin typeface="Arial"/>
              </a:rPr>
              <a:t>Зарождение понятий о клетке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ff"/>
                </a:solidFill>
                <a:latin typeface="Garamond"/>
              </a:rPr>
              <a:t>Роберт Гук</a:t>
            </a: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3492360" y="1557360"/>
          <a:ext cx="2011680" cy="25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360" y="1557360"/>
                    <a:ext cx="2011680" cy="25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3300"/>
                </a:solidFill>
                <a:latin typeface="Arial"/>
              </a:rPr>
              <a:t>1665 год</a:t>
            </a:r>
            <a:r>
              <a:rPr b="0" lang="en-US" sz="2200" spc="-1" strike="noStrike">
                <a:solidFill>
                  <a:srgbClr val="ff3300"/>
                </a:solidFill>
                <a:latin typeface="Arial"/>
              </a:rPr>
              <a:t> 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публиковал труд "Микрография", где изложил результаты своих исследований. Рассматривая тонкий срез пробки под микроскопом, он обнаружил существование множества мелких ячеек и назвал их "клетками". Так возник этот термин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778560" y="981000"/>
            <a:ext cx="14212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1635-1703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ff"/>
                </a:solidFill>
                <a:latin typeface="Garamond"/>
              </a:rPr>
              <a:t>Антони ван Левенгук</a:t>
            </a: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3203640" y="1628640"/>
          <a:ext cx="2498760" cy="280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3640" y="1628640"/>
                    <a:ext cx="2498760" cy="28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4436640"/>
            <a:ext cx="822960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3300"/>
                </a:solidFill>
                <a:latin typeface="Arial"/>
              </a:rPr>
              <a:t>1680 год</a:t>
            </a:r>
            <a:r>
              <a:rPr b="0" lang="en-US" sz="26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писал с большой точностью, наблюдаемые под микроскопом микроорганизмы. Он назвал их "микроскопическими животными", однако не отмечал их клеточного строен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637800" y="1125360"/>
            <a:ext cx="17413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1632  - 1723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II. Этап</a:t>
            </a:r>
            <a:br>
              <a:rPr sz="3200"/>
            </a:b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3300"/>
                </a:solidFill>
                <a:latin typeface="Arial"/>
              </a:rPr>
              <a:t>Возникновение клеточной теори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ff"/>
                </a:solidFill>
                <a:latin typeface="Garamond"/>
              </a:rPr>
              <a:t>Роберт Броун</a:t>
            </a: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3419640" y="1628640"/>
          <a:ext cx="2431800" cy="324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9640" y="1628640"/>
                    <a:ext cx="2431800" cy="32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5087520"/>
            <a:ext cx="8229600" cy="10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3300"/>
                </a:solidFill>
                <a:latin typeface="Arial"/>
              </a:rPr>
              <a:t>1858 год</a:t>
            </a:r>
            <a:r>
              <a:rPr b="0" lang="en-US" sz="22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Впервые описал ядро в растительной клетке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854520" y="1197000"/>
            <a:ext cx="16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1773 – 1858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ff"/>
                </a:solidFill>
                <a:latin typeface="Garamond"/>
              </a:rPr>
              <a:t>Маттиас Шлейден</a:t>
            </a: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3348000" y="1557360"/>
          <a:ext cx="2781360" cy="331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8000" y="1557360"/>
                    <a:ext cx="2781360" cy="33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5084640"/>
            <a:ext cx="822960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3300"/>
                </a:solidFill>
                <a:latin typeface="Arial"/>
              </a:rPr>
              <a:t>1838 год</a:t>
            </a:r>
            <a:r>
              <a:rPr b="0" lang="en-US" sz="26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делал первые шаги к раскрытию и пониманию роли ядр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4880" y="1052640"/>
            <a:ext cx="159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1804 – 1881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ff"/>
                </a:solidFill>
                <a:latin typeface="Garamond"/>
              </a:rPr>
              <a:t>Теодор Шванн</a:t>
            </a: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3348000" y="1484280"/>
          <a:ext cx="2274840" cy="280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8000" y="1484280"/>
                    <a:ext cx="2274840" cy="28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436572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3300"/>
                </a:solidFill>
                <a:latin typeface="Arial"/>
              </a:rPr>
              <a:t>1839 год</a:t>
            </a:r>
            <a:r>
              <a:rPr b="0" lang="ru-RU" sz="22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Используя свои собственные данные и результаты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М. Шлейдена, обобщил знания о клетке и сформулировал клеточную теорию. Основное положение этой теории: клетка является элементарной единицей строения всех растительных и животных организмов. </a:t>
            </a:r>
            <a:br>
              <a:rPr sz="2100"/>
            </a:b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854880" y="1125360"/>
            <a:ext cx="1599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1810 – 188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4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ff"/>
                </a:solidFill>
                <a:latin typeface="Garamond"/>
              </a:rPr>
              <a:t>Клеточная теория</a:t>
            </a:r>
            <a:br>
              <a:rPr sz="4200"/>
            </a:br>
            <a:r>
              <a:rPr b="1" lang="ru-RU" sz="4200" spc="-1" strike="noStrike">
                <a:solidFill>
                  <a:srgbClr val="0000ff"/>
                </a:solidFill>
                <a:latin typeface="Garamond"/>
              </a:rPr>
              <a:t> Шванна - Шлейдена</a:t>
            </a: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 Всем животным и растениям свойственно клеточное строени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. Растут и развиваются растения и животные путем возникновения новых клеток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. Клетка является самой маленькой единицей живого, а целый организм – совокупность клеток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1T10:56:21Z</dcterms:created>
  <dc:creator>IPATOV</dc:creator>
  <dc:description/>
  <dc:language>en-US</dc:language>
  <cp:lastModifiedBy>IPATOV</cp:lastModifiedBy>
  <dcterms:modified xsi:type="dcterms:W3CDTF">2007-01-11T11:25:24Z</dcterms:modified>
  <cp:revision>6</cp:revision>
  <dc:subject/>
  <dc:title>Клеточная теория строения организмов</dc:title>
</cp:coreProperties>
</file>